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chimes.wav" ContentType="audio/x-wav"/>
  <Override PartName="/ppt/media/image11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709-3AEC-4D7E-BB1B-DE7E241CA7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648D-F595-4703-8CD4-74F435BC64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76D8-2DDC-4290-9184-874AF684262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956F-896D-4618-BE0B-6A725435BB9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BFE-0BBC-4A14-BA3D-4336B739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BB4-3C89-493D-89D3-91978C0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98E-CE71-41D1-A451-F4384013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40E-5214-4B98-8DF3-BF91181E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5AA0-6025-4C66-9BCF-61C7568D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6B98-00C4-4ADE-9E11-73F37445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897-2CB0-413B-9B41-CC7A86E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8F2E-C28E-403A-9920-00CE022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2410-D4AF-4668-A49D-D7E760B0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689E-FD5A-497D-BD38-41968DD2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22D9-289B-4E3C-AA86-5960F591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BED-799B-4C4D-9C15-83B2A3D6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38C0-ED01-4ED6-8F73-D8D56D56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8CC4-8F6E-40E7-A7CE-AA3B8063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3506-DF59-43B6-9745-8896AB07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AB03-2ECD-4988-9B38-4B9E529C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99C7-B8A2-49D8-B22A-5995BB08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74368-6994-4B2D-8CA0-FC1FB5DD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8E5D-899B-418D-8761-D9DB98DB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39D5-82E7-4248-80E0-E7793C16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3378-FDA7-4942-8687-975464A7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AFD5-673E-45C9-8B60-68CC1E42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A51-100A-4598-A272-2BE17C9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0B29-33BC-42CF-8E88-FAB0CE1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467B-503E-4651-B9E2-1066BA1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AD57-FE8F-4006-BEA1-0A5AEECC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D5FC-DF5C-4FB1-AADF-E14DA71F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0733A-389B-4CED-B2F4-11BF18D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3E24-5934-442F-8E3F-7AE72C91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D8F6-74BF-42F8-969B-24B9CB92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2C37-41D5-4B43-96E8-8A43FC2C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BC26D-C4ED-452A-92E5-782B8A5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A0C0-DD58-4AE5-B8C6-2D00DD5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592-F669-47F9-A75A-65945443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EF2A-78B8-43E0-8180-21F7184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3138-10C2-4C69-9BB5-1C0CF2C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975B-FCBE-4D0C-9EA7-53D41302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BB5DE-89A0-4B79-8559-D93CC95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79239-C412-429A-8D4F-E4DBADE0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7C2F3-4F11-4B5B-8CED-33DE17C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0BD5D-DDF5-49A2-A49E-B8938394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38081-70CF-4643-8E24-89FDCA7D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69B8-D8BD-47F3-B679-702726FB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2569-3ED5-4240-97E7-0385AD8F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D3F-7A22-4EE9-99D3-1ACD78F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5057E-9F87-4D44-9714-63EB9C93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B51C-9EEB-46EF-97C1-56F259FF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FB43-FA11-464F-BC18-A84755E6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1102-1781-4944-84F0-8462DB6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47C87-F782-46E7-9861-E562EEB1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3FF31-9BA1-4785-BCE5-44B295E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23D05-C759-483B-AB81-4AF057F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1A0E-FB8F-4EA3-8E6E-41CC6AF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E797D-74F5-4A79-8238-4424F320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93D4-C793-4AE2-AB07-A99E3C29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68E-6D71-4043-B59C-E044128B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3936-A735-44F5-AC8B-D861BFFB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D14-38EE-49C4-BAC9-D8AEF8FE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B85-2B4C-4BA3-AB2D-7DE18B6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326-68D9-4335-B6B9-29DD2C7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3FDC-83F3-4C6F-8463-2C5CADE039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3534-EBDF-459B-BF18-BBAA7C4CAB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D7B-31A9-4D65-8AE8-1672CCDA4A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FBD2-FB3C-4E3F-87EA-A73CA4C46D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7107-8F57-4426-BCF4-D35734F72A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>
            <a:lum bright="66000"/>
          </a:blip>
          <a:srcRect l="18526" t="53239" r="25781" b="21075"/>
          <a:stretch/>
        </p:blipFill>
        <p:spPr>
          <a:xfrm>
            <a:off x="378000" y="500040"/>
            <a:ext cx="7203960" cy="425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B381-DCBC-4A9F-8CCF-AC843DDD57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ыполнение задачи на комплементар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4200" y="7858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Комплементарность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это взаимное дополнение азотист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ний в молекуле ДН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0300207"/>
          <p:cNvPicPr/>
          <p:nvPr/>
        </p:nvPicPr>
        <p:blipFill>
          <a:blip r:embed="rId1"/>
          <a:stretch/>
        </p:blipFill>
        <p:spPr>
          <a:xfrm>
            <a:off x="0" y="2000160"/>
            <a:ext cx="2286000" cy="2149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2627280" y="1785960"/>
            <a:ext cx="6016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Задача 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рагмент цепи ДН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еет   последовательность нуклеотидов: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Г Т Ц Т А Ц Г А 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йте по принципу комплементарности 2-ю  цепочку ДН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-я цепь ДНК: Г-Т-Ц-Т-А-Ц-Г-А-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5128200" y="3933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-А-Г-А-Т-Г-Ц-Т-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2627280" y="3933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-я цепь ДНК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1724040" y="53006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комплементар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0" y="5715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лагодаря ей происходят реакции матричного синте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самоудвоение ДНК, который  лежит  в основ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та и  размножения организм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17" descr=""/>
          <p:cNvPicPr/>
          <p:nvPr/>
        </p:nvPicPr>
        <p:blipFill>
          <a:blip r:embed="rId2"/>
          <a:stretch/>
        </p:blipFill>
        <p:spPr>
          <a:xfrm>
            <a:off x="1708200" y="4786200"/>
            <a:ext cx="61228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85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EE7-EC36-457A-9434-5B17BEF396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Репликация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сс самоудвоения молекулы ДНК на основе принципа комплементар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53272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Text Box 9"/>
          <p:cNvSpPr/>
          <p:nvPr/>
        </p:nvSpPr>
        <p:spPr>
          <a:xfrm>
            <a:off x="0" y="56610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репликации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благодаря самоудвоению  ДНК,  происходят процессы деления клеток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10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11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2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14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1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400"/>
                            </p:stCondLst>
                            <p:childTnLst>
                              <p:par>
                                <p:cTn id="4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800"/>
                            </p:stCondLst>
                            <p:childTnLst>
                              <p:par>
                                <p:cTn id="4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64 триплетов только 61 являются кодирующими, т.е несущими информацию об аминокислот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триплета являются бессмысленными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ТТ, АЦТ, А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называю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онсенс – трипле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терминирующим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кодон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Они играют роль своеобразных точек «в конце предложения», т.е. в конце синтеза белковой молеку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61 информационных триплета есть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иплеты-синони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есущие информацию об одной и той же аминокислоте. Это свойство генетического кода называе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вырожд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свойства генетического код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последовательность расположения трипле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цепи ДНК, их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еперекрываемость, специфичность, универс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сего жив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 реализации генетической информации в процессе биосинтеза бел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ранскрип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то процесс считывания информации с ДНК на и-РН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частке одной из цепей ДНК (кодогенной), называемого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труктурным гено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рмент, участвующий в процессе транскрипци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РНК-полимер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D2D0-CDD4-496A-AB7A-D68B64A244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АТФ.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очему АТФ называют «аккумулятором» клет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ТФ-аденозинтрифосфорная кисл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Organization Chart 7"/>
          <p:cNvGrpSpPr/>
          <p:nvPr/>
        </p:nvGrpSpPr>
        <p:grpSpPr>
          <a:xfrm>
            <a:off x="900000" y="2133720"/>
            <a:ext cx="7704000" cy="4462560"/>
            <a:chOff x="900000" y="2133720"/>
            <a:chExt cx="7704000" cy="4462560"/>
          </a:xfrm>
        </p:grpSpPr>
        <p:cxnSp>
          <p:nvCxnSpPr>
            <p:cNvPr id="331" name="_s1028"/>
            <p:cNvCxnSpPr>
              <a:stCxn id="332" idx="0"/>
              <a:endCxn id="333" idx="2"/>
            </p:cNvCxnSpPr>
            <p:nvPr/>
          </p:nvCxnSpPr>
          <p:spPr>
            <a:xfrm flipV="1" rot="16200000">
              <a:off x="56538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1029"/>
            <p:cNvCxnSpPr>
              <a:stCxn id="335" idx="0"/>
              <a:endCxn id="333" idx="2"/>
            </p:cNvCxnSpPr>
            <p:nvPr/>
          </p:nvCxnSpPr>
          <p:spPr>
            <a:xfrm flipV="1">
              <a:off x="4752000" y="391788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6" name="_s1030"/>
            <p:cNvCxnSpPr>
              <a:stCxn id="337" idx="0"/>
              <a:endCxn id="333" idx="2"/>
            </p:cNvCxnSpPr>
            <p:nvPr/>
          </p:nvCxnSpPr>
          <p:spPr>
            <a:xfrm flipH="1" flipV="1" rot="5400000">
              <a:off x="29574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3" name="_s1031"/>
            <p:cNvSpPr/>
            <p:nvPr/>
          </p:nvSpPr>
          <p:spPr>
            <a:xfrm>
              <a:off x="3596400" y="213372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ТФ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(нуклеотид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_s1032"/>
            <p:cNvSpPr/>
            <p:nvPr/>
          </p:nvSpPr>
          <p:spPr>
            <a:xfrm>
              <a:off x="9000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зотисто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осн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35964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углево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_s1034"/>
            <p:cNvSpPr/>
            <p:nvPr/>
          </p:nvSpPr>
          <p:spPr>
            <a:xfrm>
              <a:off x="62928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3 молекул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PO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l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CDB-4877-4D92-9018-EBC2783753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Структура молекулы АТ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116000" y="2492280"/>
            <a:ext cx="1368360" cy="60984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аден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248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98764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298764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13"/>
          <p:cNvSpPr/>
          <p:nvPr/>
        </p:nvSpPr>
        <p:spPr>
          <a:xfrm flipV="1">
            <a:off x="2987640" y="270792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634920" y="2707920"/>
            <a:ext cx="28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3348000" y="2565360"/>
            <a:ext cx="144360" cy="142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392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4427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5508720" y="2421000"/>
            <a:ext cx="64764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6659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2" name="AutoShape 20"/>
          <p:cNvCxnSpPr/>
          <p:nvPr/>
        </p:nvCxnSpPr>
        <p:spPr>
          <a:xfrm flipH="1" rot="16200000">
            <a:off x="4497480" y="177300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AutoShape 21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22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Line 23"/>
          <p:cNvSpPr/>
          <p:nvPr/>
        </p:nvSpPr>
        <p:spPr>
          <a:xfrm>
            <a:off x="4716360" y="2852640"/>
            <a:ext cx="1150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5866920" y="2852640"/>
            <a:ext cx="1081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2987640" y="321300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44"/>
          <p:cNvSpPr/>
          <p:nvPr/>
        </p:nvSpPr>
        <p:spPr>
          <a:xfrm>
            <a:off x="5676840" y="402444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Макроэргические связ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61"/>
          <p:cNvSpPr/>
          <p:nvPr/>
        </p:nvSpPr>
        <p:spPr>
          <a:xfrm>
            <a:off x="1403280" y="485928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АТФ+Н </a:t>
            </a:r>
            <a:r>
              <a:rPr b="1" lang="ru-RU" sz="10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        АДФ+Ф+Е(40кДж/моль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2.   АДФ+Н 2О       АМФ+Ф+Е(40кДж/мол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62"/>
          <p:cNvSpPr/>
          <p:nvPr/>
        </p:nvSpPr>
        <p:spPr>
          <a:xfrm>
            <a:off x="2916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64"/>
          <p:cNvSpPr/>
          <p:nvPr/>
        </p:nvSpPr>
        <p:spPr>
          <a:xfrm>
            <a:off x="755640" y="494172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65"/>
          <p:cNvSpPr/>
          <p:nvPr/>
        </p:nvSpPr>
        <p:spPr>
          <a:xfrm>
            <a:off x="1455840" y="52484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66"/>
          <p:cNvSpPr/>
          <p:nvPr/>
        </p:nvSpPr>
        <p:spPr>
          <a:xfrm>
            <a:off x="1547640" y="5229360"/>
            <a:ext cx="671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80"/>
          <p:cNvSpPr/>
          <p:nvPr/>
        </p:nvSpPr>
        <p:spPr>
          <a:xfrm>
            <a:off x="298764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81"/>
          <p:cNvSpPr/>
          <p:nvPr/>
        </p:nvSpPr>
        <p:spPr>
          <a:xfrm>
            <a:off x="971640" y="57531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етическая эффективность 2-ух макроэргических связей -80кДж/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1E6D-7D91-4084-A76F-D982BC4A46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Запомн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j0299125"/>
          <p:cNvPicPr/>
          <p:nvPr/>
        </p:nvPicPr>
        <p:blipFill>
          <a:blip r:embed="rId1"/>
          <a:stretch/>
        </p:blipFill>
        <p:spPr>
          <a:xfrm>
            <a:off x="900000" y="1620720"/>
            <a:ext cx="1368360" cy="13035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6"/>
          <p:cNvSpPr/>
          <p:nvPr/>
        </p:nvSpPr>
        <p:spPr>
          <a:xfrm>
            <a:off x="2843280" y="1916280"/>
            <a:ext cx="5349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АТФ Образуется в митохондриях клеток животных и хлоропластах раст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Энергия АТФ используется на движение, биосинтез, деление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Средняя продолжительность жизни1 молекулы АТФ менее !мин, т.к. она расщепляется и восстанавливается 2400раз в су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6AF-96CE-4406-B8F6-904248EB01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228600" y="152280"/>
            <a:ext cx="4114800" cy="381240"/>
          </a:xfrm>
          <a:custGeom>
            <a:avLst/>
            <a:gdLst>
              <a:gd name="textAreaLeft" fmla="*/ 44640 w 4114800"/>
              <a:gd name="textAreaRight" fmla="*/ 4070160 w 4114800"/>
              <a:gd name="textAreaTop" fmla="*/ 44640 h 381240"/>
              <a:gd name="textAreaBottom" fmla="*/ 336600 h 381240"/>
            </a:gdLst>
            <a:ahLst/>
            <a:rect l="textAreaLeft" t="textAreaTop" r="textAreaRight" b="textAreaBottom"/>
            <a:pathLst>
              <a:path w="2329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334" y="21600"/>
                </a:lnTo>
                <a:arcTo wR="3600" hR="3600" stAng="10800000" swAng="5400000"/>
                <a:lnTo>
                  <a:pt x="23293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4419720" y="152280"/>
            <a:ext cx="47242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НОМЕРЫ - НУКЛЕОТИ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228600" y="83808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НК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зоксирибонуклеинов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5791320" y="838080"/>
            <a:ext cx="304776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50000">
                <a:srgbClr val="ffff99"/>
              </a:gs>
              <a:gs pos="100000">
                <a:srgbClr val="ff66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ибонуклеинова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286000" y="533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457200" y="2286000"/>
            <a:ext cx="39625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Д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876920" y="4419720"/>
            <a:ext cx="3962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Р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3924360" y="4869000"/>
            <a:ext cx="1562040" cy="1760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рацил (У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5867280" y="5181480"/>
            <a:ext cx="119088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467480" y="5105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7086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0" y="2743200"/>
            <a:ext cx="1523880" cy="1838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Тимин (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2057400" y="2819520"/>
            <a:ext cx="119052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езокси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3505320" y="2819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320040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5105520" y="2514600"/>
            <a:ext cx="1904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матрична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и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7315200" y="2590920"/>
            <a:ext cx="16765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порт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т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6095880" y="3733920"/>
            <a:ext cx="304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босомная РНК (р-РН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22"/>
          <p:cNvSpPr/>
          <p:nvPr/>
        </p:nvSpPr>
        <p:spPr>
          <a:xfrm flipH="1">
            <a:off x="6324480" y="198108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7162920" y="2057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24"/>
          <p:cNvSpPr/>
          <p:nvPr/>
        </p:nvSpPr>
        <p:spPr>
          <a:xfrm>
            <a:off x="7924680" y="20574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4267080" y="5335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F3CC-4E52-4331-BF1B-64C47E6186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0300207"/>
          <p:cNvPicPr/>
          <p:nvPr/>
        </p:nvPicPr>
        <p:blipFill>
          <a:blip r:embed="rId1"/>
          <a:stretch/>
        </p:blipFill>
        <p:spPr>
          <a:xfrm>
            <a:off x="0" y="620640"/>
            <a:ext cx="2987640" cy="2514600"/>
          </a:xfrm>
          <a:prstGeom prst="rect">
            <a:avLst/>
          </a:prstGeom>
          <a:ln w="0">
            <a:noFill/>
          </a:ln>
        </p:spPr>
      </p:pic>
      <p:sp>
        <p:nvSpPr>
          <p:cNvPr id="261" name="Oval 7"/>
          <p:cNvSpPr/>
          <p:nvPr/>
        </p:nvSpPr>
        <p:spPr>
          <a:xfrm>
            <a:off x="1979640" y="0"/>
            <a:ext cx="5327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359080" cy="2853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0"/>
          <p:cNvSpPr/>
          <p:nvPr/>
        </p:nvSpPr>
        <p:spPr>
          <a:xfrm>
            <a:off x="1094400" y="260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8" descr=""/>
          <p:cNvPicPr/>
          <p:nvPr/>
        </p:nvPicPr>
        <p:blipFill>
          <a:blip r:embed="rId3"/>
          <a:stretch/>
        </p:blipFill>
        <p:spPr>
          <a:xfrm>
            <a:off x="3419640" y="836640"/>
            <a:ext cx="5499000" cy="5450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0300210"/>
          <p:cNvPicPr/>
          <p:nvPr/>
        </p:nvPicPr>
        <p:blipFill>
          <a:blip r:embed="rId4"/>
          <a:stretch/>
        </p:blipFill>
        <p:spPr>
          <a:xfrm>
            <a:off x="6443640" y="3500280"/>
            <a:ext cx="2448000" cy="1982880"/>
          </a:xfrm>
          <a:prstGeom prst="rect">
            <a:avLst/>
          </a:prstGeom>
          <a:ln w="0">
            <a:noFill/>
          </a:ln>
        </p:spPr>
      </p:pic>
      <p:sp>
        <p:nvSpPr>
          <p:cNvPr id="266" name="Line 20"/>
          <p:cNvSpPr/>
          <p:nvPr/>
        </p:nvSpPr>
        <p:spPr>
          <a:xfrm flipH="1">
            <a:off x="6084360" y="436572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734-EE8F-4B60-A6A8-FB60E3AF62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3" descr="F:\..\Physicon\biologyege_local\content\chapter3\section\paragraph2\images\0300209.jpg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Строение хромосомы"/>
          <p:cNvPicPr/>
          <p:nvPr/>
        </p:nvPicPr>
        <p:blipFill>
          <a:blip r:embed="rId2"/>
          <a:stretch/>
        </p:blipFill>
        <p:spPr>
          <a:xfrm>
            <a:off x="6019920" y="3276720"/>
            <a:ext cx="2847960" cy="35812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250920" y="0"/>
            <a:ext cx="4800600" cy="98100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ОСТАВЕ ХРОМОС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5148360" y="620640"/>
            <a:ext cx="863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4859280" y="765000"/>
            <a:ext cx="1297080" cy="25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9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753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Admin</cp:lastModifiedBy>
  <dcterms:modified xsi:type="dcterms:W3CDTF">2012-02-19T17:57:03Z</dcterms:modified>
  <cp:revision>13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